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FBC3-92DD-4D85-B126-1E4BD47D0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F3CE-4B51-4383-AD94-24E5A6FEC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27A9-8AD1-4D07-B440-A5F5E1C2D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6ED2-BDAA-4037-809A-E2DC4412D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4C206-EA38-4A7B-B561-251D6CD0D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B653A-694D-4795-AC56-1E8018B18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D93FD-B0D0-440A-9E23-E7DDC0D4A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1FA11-2DC8-4C14-AA18-CBF7417EA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47734-DB52-43DB-8468-61C46206D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4C0AB-1B14-44CC-B3C1-C40AFEFF9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FAC90-5BF5-4CB7-8119-7DC2F7B3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799B-584D-4561-9498-243E75FF4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840E3-36D0-4CAC-B410-49505EB4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1DE6E-3CED-4E86-A231-C36E599F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F2539-203F-4407-8E41-F3B0CA337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82769-68AB-4041-A7A0-AE4E1DB48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1766A-2F97-43BD-82ED-C6A18A7FD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183C-C1E5-46E2-A204-430B3A787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C605-A5E8-42FB-B01D-2C91B136C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4573-FA88-46AA-846B-85233C2C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8204-9DD4-434C-9D98-7D4D4C1FA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8ECC-3967-41F2-B3AD-4DD5BC56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E0FB-DF2A-4ED2-BCED-631607F3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1DEA-EC3B-4BE3-A6CE-09D82FFE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57D8C-33B4-49BD-BC78-60ACEF4EEFD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CC027-79C2-4983-A1F1-B17425C7F29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Geometry 1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Monday, August 30, 2010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se segment postul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se the distance formula to measure di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70080" y="1599840"/>
            <a:ext cx="3816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ll W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Define congruen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e HW (1.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ES points, rays, lines,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fic 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ment: AIMS WS, WS 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Geometry 1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Tuesday, August 31, 2010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6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Handwriting"/>
              </a:rPr>
              <a:t>Use correct mathematical terminology in discussing problems and answering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Handwriting"/>
              </a:rPr>
              <a:t>Find the measure of an angle using a protr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870080" y="1599840"/>
            <a:ext cx="3816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ll W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What is a postula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e HW-WS 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S-Scientific Notation (pg 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S-Distance Formula (page 1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Geometry 1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Thursday, September 2, 2010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Handwriting"/>
              </a:rPr>
              <a:t>Use angle postul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Handwriting"/>
              </a:rPr>
              <a:t>Classify angles as acute, obtuse or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70080" y="1599840"/>
            <a:ext cx="3816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LL W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Lucida Handwriting"/>
              </a:rPr>
              <a:t>What are congruent triang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ddition Segment Postu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ssignment:  WS-Addition Segment Postu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Lucida Handwriti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Handwriting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gles and their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4T20:05:51Z</dcterms:created>
  <dc:creator>tstephens</dc:creator>
  <dc:description/>
  <dc:language>en-US</dc:language>
  <cp:lastModifiedBy>tstephens</cp:lastModifiedBy>
  <dcterms:modified xsi:type="dcterms:W3CDTF">2010-09-01T20:02:20Z</dcterms:modified>
  <cp:revision>32</cp:revision>
  <dc:subject/>
  <dc:title>Slide 1</dc:title>
</cp:coreProperties>
</file>